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2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8.wmf" ContentType="image/x-wmf"/>
  <Override PartName="/ppt/media/image37.jpeg" ContentType="image/jpeg"/>
  <Override PartName="/ppt/media/image38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5.jpeg" ContentType="image/jpeg"/>
  <Override PartName="/ppt/media/image14.png" ContentType="image/png"/>
  <Override PartName="/ppt/media/image10.jpeg" ContentType="image/jpeg"/>
  <Override PartName="/ppt/media/image7.png" ContentType="image/png"/>
  <Override PartName="/ppt/media/image12.png" ContentType="image/png"/>
  <Override PartName="/ppt/media/image36.png" ContentType="image/png"/>
  <Override PartName="/ppt/media/image4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EC2-D00F-4C75-91DB-B3AF1E49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4B3-483E-45D4-AF6E-E8EDFF09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0FB-4E9E-410A-8A6F-F2A63778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78E7-07AB-4074-8C39-2034448F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39AA-8CF2-4CAD-B5CC-4C7D4765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BDFB-79E8-4AE8-87FB-2720D73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CE99-87DB-4DAD-894E-B409E457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75BA-2DB1-4FAC-9502-851DCFE4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343D-CA1C-4459-A0FE-58834EAB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9DDC-15C8-46C1-A63E-1207DF67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2B01-778A-48F7-B05E-744A252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917-EC7E-4528-A8C6-F73D9AD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8B85-EFE5-4823-A75C-19B0F61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1A66-E792-4821-9BAF-54848EF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8900-5991-479C-96EF-A2C27E78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29B-CBE5-483D-9B2B-FB54B1C1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4734-9DB6-47D0-83DC-EB1067F1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2C3A-2028-4A85-AA5C-C59C0A05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04E0-48E5-44A0-BE8D-856FB7C5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9A91-0CB4-42DF-BD6A-3B77AB6B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EECC-3BA7-465D-A17D-23D11A1C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1776-7753-4983-B34D-848366B1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0A7B-4BEB-4521-8B10-1A9ACC81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28B7-EE46-4576-9C87-07B368B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2E15-5B3B-47CB-9248-0525746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1EF4-6ED8-482F-B584-B75FC64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B6CD-8602-4212-9C4B-01B2E78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1658-7ED4-469B-A73B-56B3CBC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3299A-76AB-4A49-BD40-1C1654A0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8729-D322-4651-849E-CB8FA655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9DD3-960E-4DF3-A97D-D5CCDBBE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4A6B-8780-452B-B095-48E9266C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CAD6B-0D51-4096-81A5-A9BA0358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BB8-9BF0-47A3-9503-F90979E0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1C71-09E7-4042-98BD-40CE1BB5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A9B3-D6FC-4B9F-8DFC-8740B77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3508-41AA-40BB-97D4-32533801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9441-0272-4767-B18F-75383A6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82A1-5194-4988-B342-07FD9D5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458F-CF59-450F-BE51-F8E5305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2ADB-0545-42F8-94AB-B7A636BD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F1F7-0CD7-47B7-9EA5-D4F81724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BDDF-510B-437C-933E-F2F37B36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A4B3-E3BF-4A3D-B165-CEF60089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625-EEC4-412E-8986-A886E64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CAC3-EB41-41A4-9CB9-CAC1ED88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EB4C-38E5-4E80-8EAC-C761B87D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5F69E-9AA4-49FA-A221-1F64B6C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4B92-BF21-4F7F-A31C-058C1835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439AD-3C1E-4916-A37D-BCC2565F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3BA94-8448-45D1-8A4C-C3185FE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AD5EA-0D41-4303-8EA6-05D34B0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01B7-EED6-4DA3-B57E-C7BDB17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C470-9AB2-415B-AE3A-B634DDC7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F5C9-19B0-4A77-AF92-A90167F8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B54-0B3E-4ABD-9480-5968EBA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7EAD-7ABA-4A8C-85A1-E8CF04CC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659C-4455-41C6-B8B1-3AD2F416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A30D3-5E37-4F6E-A6FE-E9B8490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F5D8-4F31-4D86-9396-719B2B00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219B-5076-4D34-AF26-2B3C06AD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2A97-004C-4B6D-BF1B-EC4DECE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0718-17FA-45F2-91ED-D326839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0AF0-D649-40B2-B0FB-7D3C2A4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5B008-2EF4-4675-862E-D72E21A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B77EA-2FE5-430B-8D90-01974BE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C60-B490-4C22-893D-A9761D70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C2D34-EA37-49C8-A219-9DEC2A39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BBE0-2666-4D4E-A91C-AD4923C5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2E70-47F7-4F9D-B547-3F25D4AE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3613-5037-40ED-BBDA-82C5F0B7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489E-5205-4568-99AF-D9BC1BC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E2934-B96B-431C-A147-4890674A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A19E-C8D1-49CF-8570-CC3C4746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0217B-1C78-4C18-A0DA-5CBB5508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BAA3-74EA-4F11-A186-6FC2FB20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D52E9-4BB1-4AB8-97DF-69FD7F6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1EB-F032-47B2-AB3A-A4450D1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46CC-3195-4147-8338-7E0514BF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FDC03-4F51-4547-8113-84C4A21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A729-6591-46E4-A75E-C2EB5DB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C8D6E-5999-49F5-916A-251CD3CF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61969-E48F-481B-93C0-7814495A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080DC-313E-464D-9858-80ED14DC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88E6F-403D-482F-91AB-384DB5F4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2197-CD6B-4AAC-A6E0-C27E372F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4650-F669-47A9-9742-50598453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B6EA6-B4C4-45EF-B976-7BC634F9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F02-48F2-4CC3-A580-E8ADC0C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9B58-CE2A-4D8B-A8BF-A90FFFA2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EC375-AA46-41B2-99B9-AFFF8573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AA37-7B33-4039-A41A-E545E5B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5DDA1-E68D-4F34-999B-834761B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D9EFD-0B25-4D94-9B42-BE063022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E8112-44BA-4EAC-9182-BAA14C06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CCB3-5B96-4665-A08F-8AAB5817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982-6879-4718-B86E-CC09033CC8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08F8-2B30-4BF5-8387-F047B94E9C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183C-1B71-48AD-B1B3-B0CAE873B1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EB99-F871-451C-AA1B-2115E864E6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999D-99BD-4B71-89C7-FE0E446F32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0510-4954-4584-B997-8A2FC19A36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0CB3-E214-43F9-BC03-162523269C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9122-B557-48BC-AB56-CEB8F8A1C4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hyperlink" Target="http://www.computerdesktopwallpaper.net/wp-content/uploads/2011/01/Desert-Amazing-Wallpaper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flowersplane.com/wp-content/uploads/2011/08/Hawaii-Volcano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1" descr=""/>
          <p:cNvPicPr/>
          <p:nvPr/>
        </p:nvPicPr>
        <p:blipFill>
          <a:blip r:embed="rId1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Documents and Settings\sramsey\Local Settings\Temporary Internet Files\Content.IE5\726PDIT4\MC900441846[1].wmf"/>
          <p:cNvPicPr/>
          <p:nvPr/>
        </p:nvPicPr>
        <p:blipFill>
          <a:blip r:embed="rId2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3" descr=""/>
          <p:cNvPicPr/>
          <p:nvPr/>
        </p:nvPicPr>
        <p:blipFill>
          <a:blip r:embed="rId2"/>
          <a:stretch/>
        </p:blipFill>
        <p:spPr>
          <a:xfrm>
            <a:off x="298440" y="249120"/>
            <a:ext cx="8637480" cy="1586160"/>
          </a:xfrm>
          <a:prstGeom prst="rect">
            <a:avLst/>
          </a:prstGeom>
          <a:ln w="0">
            <a:noFill/>
          </a:ln>
        </p:spPr>
      </p:pic>
      <p:sp>
        <p:nvSpPr>
          <p:cNvPr id="396" name="TextBox 6"/>
          <p:cNvSpPr/>
          <p:nvPr/>
        </p:nvSpPr>
        <p:spPr>
          <a:xfrm>
            <a:off x="6781680" y="3505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o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http://dickiehaha.files.wordpress.com/2011/05/desertoasis.jpg"/>
          <p:cNvPicPr/>
          <p:nvPr/>
        </p:nvPicPr>
        <p:blipFill>
          <a:blip r:embed="rId3"/>
          <a:stretch/>
        </p:blipFill>
        <p:spPr>
          <a:xfrm>
            <a:off x="0" y="2133720"/>
            <a:ext cx="685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2057400" y="2285640"/>
            <a:ext cx="2286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81320" y="3809880"/>
            <a:ext cx="2590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Sans Unicode"/>
              </a:rPr>
              <a:t>Mountain ran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C:\Documents and Settings\islpt142\Local Settings\Temporary Internet Files\Content.IE5\I442ZXP3\MP900447450[1].jpg"/>
          <p:cNvPicPr/>
          <p:nvPr/>
        </p:nvPicPr>
        <p:blipFill>
          <a:blip r:embed="rId2"/>
          <a:stretch/>
        </p:blipFill>
        <p:spPr>
          <a:xfrm>
            <a:off x="0" y="129528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Ask a HIGHER level question combining two or more terms.</a:t>
            </a:r>
            <a:endParaRPr b="0" lang="en-US" sz="1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Example:</a:t>
            </a:r>
            <a:endParaRPr b="0" lang="en-US" sz="1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Lucida Sans Unicode"/>
              </a:rPr>
              <a:t>How is a strait similar to an isthmus?  Type the answer at the bottom where it says “Click to add notes.”</a:t>
            </a:r>
            <a:endParaRPr b="0" lang="en-US" sz="1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http://www.worldatlas.com/aatlas/infopage/hormuz.gif"/>
          <p:cNvPicPr/>
          <p:nvPr/>
        </p:nvPicPr>
        <p:blipFill>
          <a:blip r:embed="rId2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http://www.nasa.gov/images/content/150519main_image_feature_595_ys_4.jpg"/>
          <p:cNvPicPr/>
          <p:nvPr/>
        </p:nvPicPr>
        <p:blipFill>
          <a:blip r:embed="rId3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406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7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08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1e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304920" y="1828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a  oasis and a desert defer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6" descr="http://1000thingstobegratefulfor.files.wordpress.com/2011/07/wadi-in-desert-1.jpg"/>
          <p:cNvPicPr/>
          <p:nvPr/>
        </p:nvPicPr>
        <p:blipFill>
          <a:blip r:embed="rId2"/>
          <a:stretch/>
        </p:blipFill>
        <p:spPr>
          <a:xfrm>
            <a:off x="0" y="3962520"/>
            <a:ext cx="3962520" cy="2895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Desert Amazing Wallpaper 300x168 Desert Amazing Wallpap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3962520"/>
            <a:ext cx="3657600" cy="2895480"/>
          </a:xfrm>
          <a:prstGeom prst="rect">
            <a:avLst/>
          </a:prstGeom>
          <a:ln w="0">
            <a:noFill/>
          </a:ln>
        </p:spPr>
      </p:pic>
      <p:sp>
        <p:nvSpPr>
          <p:cNvPr id="415" name="Right Arrow 7"/>
          <p:cNvSpPr/>
          <p:nvPr/>
        </p:nvSpPr>
        <p:spPr>
          <a:xfrm rot="2553000">
            <a:off x="4468320" y="3889440"/>
            <a:ext cx="2792520" cy="557280"/>
          </a:xfrm>
          <a:prstGeom prst="rightArrow">
            <a:avLst>
              <a:gd name="adj1" fmla="val 33370"/>
              <a:gd name="adj2" fmla="val 4999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eft Arrow 16"/>
          <p:cNvSpPr/>
          <p:nvPr/>
        </p:nvSpPr>
        <p:spPr>
          <a:xfrm rot="19393800">
            <a:off x="2147400" y="4000320"/>
            <a:ext cx="3081600" cy="45720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1430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68580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20840" y="-109440"/>
            <a:ext cx="8046720" cy="8776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380880" y="1981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deferent's between an ice burg and a 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5" descr="http://www.alaska-in-pictures.com/data/media/19/tracy-arm-iceberg_1377.jpg"/>
          <p:cNvPicPr/>
          <p:nvPr/>
        </p:nvPicPr>
        <p:blipFill>
          <a:blip r:embed="rId2"/>
          <a:stretch/>
        </p:blipFill>
        <p:spPr>
          <a:xfrm>
            <a:off x="0" y="3429000"/>
            <a:ext cx="4457880" cy="3429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http://westerlund10.wikis.birmingham.k12.mi.us/file/view/himilayan_glacier_2.jpg/191926616/himilayan_glacier_2.jpg"/>
          <p:cNvPicPr/>
          <p:nvPr/>
        </p:nvPicPr>
        <p:blipFill>
          <a:blip r:embed="rId3"/>
          <a:stretch/>
        </p:blipFill>
        <p:spPr>
          <a:xfrm>
            <a:off x="5791320" y="34290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424" name="Right Arrow 7"/>
          <p:cNvSpPr/>
          <p:nvPr/>
        </p:nvSpPr>
        <p:spPr>
          <a:xfrm>
            <a:off x="4952880" y="5410080"/>
            <a:ext cx="1295640" cy="304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eft Arrow 8"/>
          <p:cNvSpPr/>
          <p:nvPr/>
        </p:nvSpPr>
        <p:spPr>
          <a:xfrm>
            <a:off x="3886200" y="4419720"/>
            <a:ext cx="1523880" cy="304560"/>
          </a:xfrm>
          <a:prstGeom prst="leftArrow">
            <a:avLst>
              <a:gd name="adj1" fmla="val 50000"/>
              <a:gd name="adj2" fmla="val 5003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1600200" y="6095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Ice 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6781680" y="6095880"/>
            <a:ext cx="13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139680" y="-92160"/>
            <a:ext cx="8864640" cy="17258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6"/>
          <p:cNvSpPr/>
          <p:nvPr/>
        </p:nvSpPr>
        <p:spPr>
          <a:xfrm>
            <a:off x="7010280" y="3276720"/>
            <a:ext cx="213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Blackadder ITC"/>
              </a:rPr>
              <a:t>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Picture 6" descr="http://ed101.bu.edu/StudentDoc/current/ED101fa10/hillaryw/Images/plains_landscape.jpg"/>
          <p:cNvPicPr/>
          <p:nvPr/>
        </p:nvPicPr>
        <p:blipFill>
          <a:blip r:embed="rId2"/>
          <a:stretch/>
        </p:blipFill>
        <p:spPr>
          <a:xfrm>
            <a:off x="304920" y="1981080"/>
            <a:ext cx="6607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2"/>
          <a:stretch/>
        </p:blipFill>
        <p:spPr>
          <a:xfrm>
            <a:off x="92160" y="-208080"/>
            <a:ext cx="8691480" cy="20433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781680" y="35053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00"/>
                </a:solidFill>
                <a:latin typeface="Times New Roman"/>
              </a:rPr>
              <a:t>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6" descr="http://t1.gstatic.com/images?q=tbn:ANd9GcR5tyiKwiYwJUElhvvwukN8AhXWkbqgnRqiJYa3Ljd_txYwPS0fJHn4BPVN"/>
          <p:cNvPicPr/>
          <p:nvPr/>
        </p:nvPicPr>
        <p:blipFill>
          <a:blip r:embed="rId3"/>
          <a:stretch/>
        </p:blipFill>
        <p:spPr>
          <a:xfrm>
            <a:off x="0" y="1905120"/>
            <a:ext cx="6788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6" descr="http://www.ysi.com/media/apps/thumb/Source-Water-App.jpg"/>
          <p:cNvPicPr/>
          <p:nvPr/>
        </p:nvPicPr>
        <p:blipFill>
          <a:blip r:embed="rId2"/>
          <a:stretch/>
        </p:blipFill>
        <p:spPr>
          <a:xfrm>
            <a:off x="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3" descr=""/>
          <p:cNvPicPr/>
          <p:nvPr/>
        </p:nvPicPr>
        <p:blipFill>
          <a:blip r:embed="rId2"/>
          <a:stretch/>
        </p:blipFill>
        <p:spPr>
          <a:xfrm>
            <a:off x="225360" y="-103320"/>
            <a:ext cx="8650440" cy="1908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6781680" y="35053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747"/>
                </a:solidFill>
                <a:latin typeface="Times New Roman"/>
              </a:rPr>
              <a:t>vol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6" descr="Hawaii Volcan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73320"/>
            <a:ext cx="6629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3" descr=""/>
          <p:cNvPicPr/>
          <p:nvPr/>
        </p:nvPicPr>
        <p:blipFill>
          <a:blip r:embed="rId1"/>
          <a:stretch/>
        </p:blipFill>
        <p:spPr>
          <a:xfrm>
            <a:off x="225360" y="-158760"/>
            <a:ext cx="8467920" cy="1908360"/>
          </a:xfrm>
          <a:prstGeom prst="rect">
            <a:avLst/>
          </a:prstGeom>
          <a:ln w="0">
            <a:noFill/>
          </a:ln>
        </p:spPr>
      </p:pic>
      <p:sp>
        <p:nvSpPr>
          <p:cNvPr id="385" name="TextBox 6"/>
          <p:cNvSpPr/>
          <p:nvPr/>
        </p:nvSpPr>
        <p:spPr>
          <a:xfrm>
            <a:off x="7162920" y="35053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plate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http://media-3.web.britannica.com/eb-media/90/118890-004-8C5E9046.jpg"/>
          <p:cNvPicPr/>
          <p:nvPr/>
        </p:nvPicPr>
        <p:blipFill>
          <a:blip r:embed="rId2"/>
          <a:stretch/>
        </p:blipFill>
        <p:spPr>
          <a:xfrm>
            <a:off x="0" y="2133720"/>
            <a:ext cx="714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3" descr=""/>
          <p:cNvPicPr/>
          <p:nvPr/>
        </p:nvPicPr>
        <p:blipFill>
          <a:blip r:embed="rId2"/>
          <a:stretch/>
        </p:blipFill>
        <p:spPr>
          <a:xfrm>
            <a:off x="225360" y="-158760"/>
            <a:ext cx="8467920" cy="24685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6"/>
          <p:cNvSpPr/>
          <p:nvPr/>
        </p:nvSpPr>
        <p:spPr>
          <a:xfrm>
            <a:off x="7010280" y="574992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del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3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6"/>
          <p:cNvSpPr/>
          <p:nvPr/>
        </p:nvSpPr>
        <p:spPr>
          <a:xfrm>
            <a:off x="7315200" y="34290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Times New Roman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6" descr="Alaska Portage Glacier"/>
          <p:cNvPicPr/>
          <p:nvPr/>
        </p:nvPicPr>
        <p:blipFill>
          <a:blip r:embed="rId3"/>
          <a:stretch/>
        </p:blipFill>
        <p:spPr>
          <a:xfrm>
            <a:off x="0" y="1432080"/>
            <a:ext cx="72388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3" descr=""/>
          <p:cNvPicPr/>
          <p:nvPr/>
        </p:nvPicPr>
        <p:blipFill>
          <a:blip r:embed="rId2"/>
          <a:stretch/>
        </p:blipFill>
        <p:spPr>
          <a:xfrm>
            <a:off x="225360" y="-158760"/>
            <a:ext cx="8467920" cy="158580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7391520" y="3733920"/>
            <a:ext cx="2133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</a:rPr>
              <a:t>De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6" descr="http://www.blueplanetbiomes.org/images/dry_desert.jpg"/>
          <p:cNvPicPr/>
          <p:nvPr/>
        </p:nvPicPr>
        <p:blipFill>
          <a:blip r:embed="rId3"/>
          <a:stretch/>
        </p:blipFill>
        <p:spPr>
          <a:xfrm>
            <a:off x="0" y="1930320"/>
            <a:ext cx="739152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32:18Z</dcterms:modified>
  <cp:revision>31</cp:revision>
  <dc:subject/>
  <dc:title>PowerPoint Presentation</dc:title>
</cp:coreProperties>
</file>